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Lima, Junio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5943600" y="640080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urso de Patrimonio y Document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M%20ok%20color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1143000" cy="46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members.tripod.com/santamariadelashoyas/Baudelio.jpg" TargetMode="External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rtehistoria.com/genios/cuadros/911.htm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rtehistoria.com/genios/cuadros/25.htm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artehistoria.com/genios/cuadros/35.htm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www.artehistoria.com/genios/cuadros/201.htm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t001942.eresmas.net/IMAGENES/DamaElche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 Black"/>
              </a:rPr>
              <a:t>El Patrimonio Histórico Español. Antecedentes</a:t>
            </a:r>
            <a:endParaRPr b="1" lang="en-US" sz="3200" spc="-1" strike="noStrike">
              <a:solidFill>
                <a:srgbClr val="ff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7920" y="30456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Black"/>
              </a:rPr>
              <a:t>El Patrimonio Histórico Español. Antecedentes</a:t>
            </a:r>
            <a:endParaRPr b="1" lang="en-US" sz="14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1219320"/>
            <a:ext cx="6781680" cy="51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GLO 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Continúa la pérdida de patrimon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 algn="just">
              <a:lnSpc>
                <a:spcPct val="100000"/>
              </a:lnSpc>
              <a:buClr>
                <a:srgbClr val="ffb03d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ienes Muebles: reja de la Catedral de Valladol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 algn="just">
              <a:lnSpc>
                <a:spcPct val="100000"/>
              </a:lnSpc>
              <a:buClr>
                <a:srgbClr val="ffb03d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ienes Inmuebl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3880" algn="just">
              <a:lnSpc>
                <a:spcPct val="100000"/>
              </a:lnSpc>
              <a:buClr>
                <a:srgbClr val="ffb03d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tio del Palacio de Vélez-Blanc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3880" algn="just">
              <a:lnSpc>
                <a:spcPct val="100000"/>
              </a:lnSpc>
              <a:buClr>
                <a:srgbClr val="ffb03d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3880" algn="just">
              <a:lnSpc>
                <a:spcPct val="100000"/>
              </a:lnSpc>
              <a:buClr>
                <a:srgbClr val="ffb03d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inturas de San Baudelio de Berlan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 algn="just">
              <a:lnSpc>
                <a:spcPct val="100000"/>
              </a:lnSpc>
              <a:buClr>
                <a:srgbClr val="ffb03d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uerra Ci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 algn="just">
              <a:lnSpc>
                <a:spcPct val="100000"/>
              </a:lnSpc>
              <a:buClr>
                <a:srgbClr val="ffb03d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arroll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2240" y="215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2240" y="215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vbcastillopatio" descr="Patio de Honor del Castillo de Vélez-Blanco (En N. York)"/>
          <p:cNvPicPr/>
          <p:nvPr/>
        </p:nvPicPr>
        <p:blipFill>
          <a:blip r:embed="rId1"/>
          <a:stretch/>
        </p:blipFill>
        <p:spPr>
          <a:xfrm>
            <a:off x="5105520" y="762120"/>
            <a:ext cx="1904760" cy="1296720"/>
          </a:xfrm>
          <a:prstGeom prst="rect">
            <a:avLst/>
          </a:prstGeom>
          <a:ln w="0">
            <a:noFill/>
          </a:ln>
        </p:spPr>
      </p:pic>
      <p:pic>
        <p:nvPicPr>
          <p:cNvPr id="100" name="Baudelio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31200" y="762120"/>
            <a:ext cx="1216080" cy="2133360"/>
          </a:xfrm>
          <a:prstGeom prst="rect">
            <a:avLst/>
          </a:prstGeom>
          <a:ln w="0">
            <a:noFill/>
          </a:ln>
        </p:spPr>
      </p:pic>
      <p:pic>
        <p:nvPicPr>
          <p:cNvPr id="101" name="MAC00654" descr=""/>
          <p:cNvPicPr/>
          <p:nvPr/>
        </p:nvPicPr>
        <p:blipFill>
          <a:blip r:embed="rId4"/>
          <a:stretch/>
        </p:blipFill>
        <p:spPr>
          <a:xfrm>
            <a:off x="4267080" y="5029200"/>
            <a:ext cx="2514600" cy="1276200"/>
          </a:xfrm>
          <a:prstGeom prst="rect">
            <a:avLst/>
          </a:prstGeom>
          <a:ln w="0">
            <a:noFill/>
          </a:ln>
        </p:spPr>
      </p:pic>
      <p:pic>
        <p:nvPicPr>
          <p:cNvPr id="102" name="GALLIGN1" descr="Fuentiduena Chapel"/>
          <p:cNvPicPr/>
          <p:nvPr/>
        </p:nvPicPr>
        <p:blipFill>
          <a:blip r:embed="rId5"/>
          <a:stretch/>
        </p:blipFill>
        <p:spPr>
          <a:xfrm>
            <a:off x="7238880" y="2971800"/>
            <a:ext cx="151776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7920" y="30456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Black"/>
              </a:rPr>
              <a:t>El Patrimonio Histórico Español. Antecedentes</a:t>
            </a:r>
            <a:endParaRPr b="1" lang="en-US" sz="14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914400"/>
            <a:ext cx="8153640" cy="49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GLO 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Norm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 algn="just">
              <a:lnSpc>
                <a:spcPct val="100000"/>
              </a:lnSpc>
              <a:buClr>
                <a:srgbClr val="ffb03d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00: Creación del Ministerio de Instrucción Pública y Bellas Ar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 algn="just">
              <a:lnSpc>
                <a:spcPct val="100000"/>
              </a:lnSpc>
              <a:buClr>
                <a:srgbClr val="ffb03d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00: Real Decreto de Formación del Catálogo Monumental y Artí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 algn="just">
              <a:lnSpc>
                <a:spcPct val="100000"/>
              </a:lnSpc>
              <a:buClr>
                <a:srgbClr val="ffb03d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11: Ley de Excavaciones y Antigüe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 algn="just">
              <a:lnSpc>
                <a:spcPct val="100000"/>
              </a:lnSpc>
              <a:buClr>
                <a:srgbClr val="ffb03d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15: Ley de Monum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 algn="just">
              <a:lnSpc>
                <a:spcPct val="100000"/>
              </a:lnSpc>
              <a:buClr>
                <a:srgbClr val="ffb03d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26: Ley sobre Protección y Conservación de la Riqueza Art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 algn="just">
              <a:lnSpc>
                <a:spcPct val="100000"/>
              </a:lnSpc>
              <a:buClr>
                <a:srgbClr val="ffb03d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31: Constit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 algn="just">
              <a:lnSpc>
                <a:spcPct val="100000"/>
              </a:lnSpc>
              <a:buClr>
                <a:srgbClr val="ffb03d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31: Ley sobre Enajenación de Bienes de más de 100 Años de Antigü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 algn="just">
              <a:lnSpc>
                <a:spcPct val="100000"/>
              </a:lnSpc>
              <a:buClr>
                <a:srgbClr val="ffb03d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933: Ley sobre la Defensa, Conservación y Acrecentamiento del Patrimonio Histórico Artístico 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37920" y="30456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Black"/>
              </a:rPr>
              <a:t>El Patrimonio Histórico Español. Antecedentes</a:t>
            </a:r>
            <a:endParaRPr b="1" lang="en-US" sz="14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219320"/>
            <a:ext cx="8153280" cy="36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volución del concepto de patrimo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Siglo XV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 algn="just">
              <a:lnSpc>
                <a:spcPct val="100000"/>
              </a:lnSpc>
              <a:buClr>
                <a:srgbClr val="ffb03d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773: Real Academia de Bellas Artes de San Fern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 algn="just">
              <a:lnSpc>
                <a:spcPct val="100000"/>
              </a:lnSpc>
              <a:spcBef>
                <a:spcPts val="1874"/>
              </a:spcBef>
              <a:buClr>
                <a:srgbClr val="ffb03d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779: Real Orden de prohibición de la expor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7920" y="30456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Black"/>
              </a:rPr>
              <a:t>El Patrimonio Histórico Español. Antecedentes</a:t>
            </a:r>
            <a:endParaRPr b="1" lang="en-US" sz="14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219320"/>
            <a:ext cx="8153280" cy="48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GLO X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Norm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 algn="just">
              <a:lnSpc>
                <a:spcPct val="100000"/>
              </a:lnSpc>
              <a:buClr>
                <a:srgbClr val="ffb03d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803: Instrucción sobre el modo de recoger y conservar los monu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 algn="just">
              <a:lnSpc>
                <a:spcPct val="100000"/>
              </a:lnSpc>
              <a:buClr>
                <a:srgbClr val="ffb03d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844: Real Orden de creación de las Comisiones de Monumentos Histó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 algn="just">
              <a:lnSpc>
                <a:spcPct val="100000"/>
              </a:lnSpc>
              <a:buClr>
                <a:srgbClr val="ffb03d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850: Real Orden para proteger los edificios del Estado cedidos a corporaciones y partic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 algn="just">
              <a:lnSpc>
                <a:spcPct val="100000"/>
              </a:lnSpc>
              <a:buClr>
                <a:srgbClr val="ffb03d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851: Real Orden de supervisión de la Real Academia de Bellas Artes de San Fern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7920" y="30456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Black"/>
              </a:rPr>
              <a:t>El Patrimonio Histórico Español. Antecedentes</a:t>
            </a:r>
            <a:endParaRPr b="1" lang="en-US" sz="14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066680"/>
            <a:ext cx="8153280" cy="50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GLO X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Aspectos posi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>
              <a:lnSpc>
                <a:spcPct val="100000"/>
              </a:lnSpc>
              <a:buClr>
                <a:srgbClr val="ffb03d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reación de mus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>
              <a:lnSpc>
                <a:spcPct val="100000"/>
              </a:lnSpc>
              <a:buClr>
                <a:srgbClr val="ffb03d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vance en la consideración del aspecto social y público del patrimonio (patrimonio re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Aspectos neg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>
              <a:lnSpc>
                <a:spcPct val="100000"/>
              </a:lnSpc>
              <a:buClr>
                <a:srgbClr val="ffb03d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amort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>
              <a:lnSpc>
                <a:spcPct val="100000"/>
              </a:lnSpc>
              <a:buClr>
                <a:srgbClr val="ffb03d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uerra de la Independ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>
              <a:lnSpc>
                <a:spcPct val="100000"/>
              </a:lnSpc>
              <a:buClr>
                <a:srgbClr val="ffb03d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alida incontrolada de bi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>
              <a:lnSpc>
                <a:spcPct val="100000"/>
              </a:lnSpc>
              <a:buClr>
                <a:srgbClr val="ffb03d"/>
              </a:buClr>
              <a:buSzPct val="5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recimiento de las ciu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7920" y="30456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Black"/>
              </a:rPr>
              <a:t>El Patrimonio Histórico Español. Antecedentes</a:t>
            </a:r>
            <a:endParaRPr b="1" lang="en-US" sz="14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066680"/>
            <a:ext cx="8153280" cy="33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GLO X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Aspectos negativos: La Desamort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bandono de inmue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jerez1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2111400" cy="3200400"/>
          </a:xfrm>
          <a:prstGeom prst="rect">
            <a:avLst/>
          </a:prstGeom>
          <a:ln w="0">
            <a:noFill/>
          </a:ln>
        </p:spPr>
      </p:pic>
      <p:pic>
        <p:nvPicPr>
          <p:cNvPr id="52" name="catedral" descr=""/>
          <p:cNvPicPr/>
          <p:nvPr/>
        </p:nvPicPr>
        <p:blipFill>
          <a:blip r:embed="rId2"/>
          <a:stretch/>
        </p:blipFill>
        <p:spPr>
          <a:xfrm>
            <a:off x="217440" y="-27716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5840" y="-2771640"/>
            <a:ext cx="360" cy="136440"/>
          </a:xfrm>
          <a:prstGeom prst="rect">
            <a:avLst/>
          </a:prstGeom>
          <a:solidFill>
            <a:srgbClr val="fff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artuja" descr=""/>
          <p:cNvPicPr/>
          <p:nvPr/>
        </p:nvPicPr>
        <p:blipFill>
          <a:blip r:embed="rId3"/>
          <a:stretch/>
        </p:blipFill>
        <p:spPr>
          <a:xfrm>
            <a:off x="217440" y="-2771640"/>
            <a:ext cx="2525760" cy="1714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85840" y="-2771640"/>
            <a:ext cx="360" cy="136440"/>
          </a:xfrm>
          <a:prstGeom prst="rect">
            <a:avLst/>
          </a:prstGeom>
          <a:solidFill>
            <a:srgbClr val="fff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HIM19784" descr=""/>
          <p:cNvPicPr/>
          <p:nvPr/>
        </p:nvPicPr>
        <p:blipFill>
          <a:blip r:embed="rId4"/>
          <a:stretch/>
        </p:blipFill>
        <p:spPr>
          <a:xfrm>
            <a:off x="4876920" y="2971800"/>
            <a:ext cx="1806480" cy="3200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200400" y="571500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artuja de Jer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0" y="571500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Los Jerónimos. Mad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30456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Black"/>
              </a:rPr>
              <a:t>El Patrimonio Histórico Español. Antecedentes</a:t>
            </a:r>
            <a:endParaRPr b="1" lang="en-US" sz="14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1066680"/>
            <a:ext cx="815328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GLO X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Aspectos negativos: Guerra de la Independ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aqueo de los generales franc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586728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nmaculada Concepción. Murillo. Museo del Pr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586728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Cervatilla de Medina Azahara. Museo de Quat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508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MUI0091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895480"/>
            <a:ext cx="2006640" cy="2971800"/>
          </a:xfrm>
          <a:prstGeom prst="rect">
            <a:avLst/>
          </a:prstGeom>
          <a:ln w="0">
            <a:noFill/>
          </a:ln>
        </p:spPr>
      </p:pic>
      <p:pic>
        <p:nvPicPr>
          <p:cNvPr id="65" name="cier_bronce2" descr=""/>
          <p:cNvPicPr/>
          <p:nvPr/>
        </p:nvPicPr>
        <p:blipFill>
          <a:blip r:embed="rId3"/>
          <a:stretch/>
        </p:blipFill>
        <p:spPr>
          <a:xfrm>
            <a:off x="5181480" y="2895480"/>
            <a:ext cx="167328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30456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Black"/>
              </a:rPr>
              <a:t>El Patrimonio Histórico Español. Antecedentes</a:t>
            </a:r>
            <a:endParaRPr b="1" lang="en-US" sz="14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066680"/>
            <a:ext cx="815328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GLO X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Aspectos negativos: Guerra de la Independ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380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aqueo de las tropas inglesas/Desidia de las autor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5486400"/>
            <a:ext cx="167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Vieja friendo huev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5791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l aguador de Sevi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24480" y="548640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La Venus del Espe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628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VEE0002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3124080"/>
            <a:ext cx="1943280" cy="2590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-6480" y="276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VEL0003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62720" y="3352680"/>
            <a:ext cx="2895480" cy="1973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-7920" y="262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VEV0020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880" y="3303720"/>
            <a:ext cx="243864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37920" y="30456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Black"/>
              </a:rPr>
              <a:t>El Patrimonio Histórico Español. Antecedentes</a:t>
            </a:r>
            <a:endParaRPr b="1" lang="en-US" sz="14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066680"/>
            <a:ext cx="815328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GLO X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Aspectos negativos: Salida incontrolada de bi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586728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ama de Elc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586728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Tesoro de Guarraz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78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DamaElche-peq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2895480"/>
            <a:ext cx="1887480" cy="2632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314360" y="1967040"/>
            <a:ext cx="651528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vis2_i02" descr=""/>
          <p:cNvPicPr/>
          <p:nvPr/>
        </p:nvPicPr>
        <p:blipFill>
          <a:blip r:embed="rId3"/>
          <a:stretch/>
        </p:blipFill>
        <p:spPr>
          <a:xfrm>
            <a:off x="3429000" y="2743200"/>
            <a:ext cx="419112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37920" y="30456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Black"/>
              </a:rPr>
              <a:t>El Patrimonio Histórico Español. Antecedentes</a:t>
            </a:r>
            <a:endParaRPr b="1" lang="en-US" sz="1400" spc="-1" strike="noStrike">
              <a:solidFill>
                <a:srgbClr val="ff9900"/>
              </a:solidFill>
              <a:latin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1066680"/>
            <a:ext cx="815328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GLO X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Aspectos negativos: Crecimiento de las ciu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58672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evi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58672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Mad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HIM18216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2014560" cy="3276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646280" y="106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MADRIDSXII_MURALLAS_PORTAL" descr=""/>
          <p:cNvPicPr/>
          <p:nvPr/>
        </p:nvPicPr>
        <p:blipFill>
          <a:blip r:embed="rId2"/>
          <a:stretch/>
        </p:blipFill>
        <p:spPr>
          <a:xfrm>
            <a:off x="2895480" y="3505320"/>
            <a:ext cx="3048120" cy="2287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646280" y="1063800"/>
            <a:ext cx="585144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muestraimagen" descr="Ampliar imagen"/>
          <p:cNvPicPr/>
          <p:nvPr/>
        </p:nvPicPr>
        <p:blipFill>
          <a:blip r:embed="rId3"/>
          <a:stretch/>
        </p:blipFill>
        <p:spPr>
          <a:xfrm>
            <a:off x="6172200" y="4191120"/>
            <a:ext cx="2286000" cy="15890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172200" y="58672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Avi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3T09:54:07Z</dcterms:created>
  <dc:creator>Miguel Angel Santibañez</dc:creator>
  <dc:description/>
  <dc:language>en-US</dc:language>
  <cp:lastModifiedBy>Usuario</cp:lastModifiedBy>
  <dcterms:modified xsi:type="dcterms:W3CDTF">2004-06-17T10:43:43Z</dcterms:modified>
  <cp:revision>24</cp:revision>
  <dc:subject/>
  <dc:title>Formas de Adquisición</dc:title>
</cp:coreProperties>
</file>