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drid, Marzo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60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XVI Curso Superior de Museología C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t001942.eresmas.net/IMAGENES/DamaElche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members.tripod.com/santamariadelashoyas/Baudelio.jp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ais.it/guggenheim/image/001_uk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1/London_NP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rtehistoria.com/genios/cuadros/25.ht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artehistoria.com/genios/cuadros/35.htm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artehistoria.com/genios/cuadros/201.htm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066680"/>
            <a:ext cx="81532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Salida incontrolada de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ama de El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Tesoro de Guarraz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895480"/>
            <a:ext cx="1887480" cy="263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14360" y="1967040"/>
            <a:ext cx="65152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29000" y="2743200"/>
            <a:ext cx="4191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66680"/>
            <a:ext cx="81532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Crecimiento de las ciu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8672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01456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4628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3048120" cy="228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46280" y="1063800"/>
            <a:ext cx="5851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Ampliar imagen"/>
          <p:cNvPicPr/>
          <p:nvPr/>
        </p:nvPicPr>
        <p:blipFill>
          <a:blip r:embed="rId3"/>
          <a:stretch/>
        </p:blipFill>
        <p:spPr>
          <a:xfrm>
            <a:off x="6172200" y="4191120"/>
            <a:ext cx="2286000" cy="1589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72200" y="58672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Avi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219320"/>
            <a:ext cx="678168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ntinúa la pérdida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enes Muebles: reja de la Catedral de Vallado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enes Inmueb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io del Palacio de Vélez-Blan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nturas de San Baudelio de Berl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24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224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Patio de Honor del Castillo de Vélez-Blanco (En N. York)"/>
          <p:cNvPicPr/>
          <p:nvPr/>
        </p:nvPicPr>
        <p:blipFill>
          <a:blip r:embed="rId1"/>
          <a:stretch/>
        </p:blipFill>
        <p:spPr>
          <a:xfrm>
            <a:off x="5105520" y="762120"/>
            <a:ext cx="1904760" cy="129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31200" y="762120"/>
            <a:ext cx="121608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267080" y="5029200"/>
            <a:ext cx="2514600" cy="1276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Fuentiduena Chapel"/>
          <p:cNvPicPr/>
          <p:nvPr/>
        </p:nvPicPr>
        <p:blipFill>
          <a:blip r:embed="rId5"/>
          <a:stretch/>
        </p:blipFill>
        <p:spPr>
          <a:xfrm>
            <a:off x="7238880" y="2971800"/>
            <a:ext cx="15177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914400"/>
            <a:ext cx="81536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0: Creación del Ministerio de Instrucción Pública y Bellas 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0: Real Decreto de Formación del Catálogo Monumental y Art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11: Ley de Excavaciones y Antigü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15: Ley de Mon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26: Ley sobre Protección y Conservación de la Riqueza Art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1: Constit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1: Ley sobre Enajenación de Bienes de más de 100 Años de Antigü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3: Ley sobre la Defensa, Conservación y Acrecentamiento del Patrimonio Histórico Artístic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907920"/>
            <a:ext cx="8153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765000"/>
            <a:ext cx="76327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n:London NP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765000"/>
            <a:ext cx="6985080" cy="5239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304920"/>
            <a:ext cx="6705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8520" y="6020640"/>
            <a:ext cx="20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tional Portrait Gallery, Lond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836640"/>
            <a:ext cx="815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South Kensington Museum"/>
          <p:cNvPicPr/>
          <p:nvPr/>
        </p:nvPicPr>
        <p:blipFill>
          <a:blip r:embed="rId1"/>
          <a:stretch/>
        </p:blipFill>
        <p:spPr>
          <a:xfrm>
            <a:off x="395280" y="1268280"/>
            <a:ext cx="3357720" cy="463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6058800"/>
            <a:ext cx="227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seo South Kensington, hacia 1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Room 12"/>
          <p:cNvPicPr/>
          <p:nvPr/>
        </p:nvPicPr>
        <p:blipFill>
          <a:blip r:embed="rId2"/>
          <a:stretch/>
        </p:blipFill>
        <p:spPr>
          <a:xfrm>
            <a:off x="4140360" y="2192400"/>
            <a:ext cx="4679640" cy="3578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14880" y="6092280"/>
            <a:ext cx="24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tional Portrait Gallery en la actu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532320" cy="448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048200" cy="3038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7920" y="33300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y estrategia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La exposición. Tipos  y estrategia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pic>
        <p:nvPicPr>
          <p:cNvPr id="58" name="" descr="foto"/>
          <p:cNvPicPr/>
          <p:nvPr/>
        </p:nvPicPr>
        <p:blipFill>
          <a:blip r:embed="rId1"/>
          <a:stretch/>
        </p:blipFill>
        <p:spPr>
          <a:xfrm>
            <a:off x="395280" y="263520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40360" y="3424320"/>
            <a:ext cx="4297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066680"/>
            <a:ext cx="815328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La Desamor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andono de inmue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211140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5840" y="-2771640"/>
            <a:ext cx="360" cy="136440"/>
          </a:xfrm>
          <a:prstGeom prst="rect">
            <a:avLst/>
          </a:prstGeom>
          <a:solidFill>
            <a:srgbClr val="fff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840" y="-2771640"/>
            <a:ext cx="360" cy="136440"/>
          </a:xfrm>
          <a:prstGeom prst="rect">
            <a:avLst/>
          </a:prstGeom>
          <a:solidFill>
            <a:srgbClr val="fff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1806480" cy="3200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0400" y="5715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rtuja de Je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715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os Jerónimos. Mad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8366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xposición Carolus. Toledo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60930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trato de Carlos V pintado por Seisen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2921040" cy="489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313000" cy="4751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00720" y="616572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Retrato de Carlos V pintado por Tizi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066680"/>
            <a:ext cx="81532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Guerra de la In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queo de las tropas inglesas/Desidia de las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4864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ieja friendo hue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791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 aguador de Sev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54864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a Venus del Espe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628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31240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648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352680"/>
            <a:ext cx="2895480" cy="1973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92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303720"/>
            <a:ext cx="24386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9:54:07Z</dcterms:created>
  <dc:creator>Miguel Angel Santibañez</dc:creator>
  <dc:description/>
  <dc:language>en-US</dc:language>
  <cp:lastModifiedBy>Miguel A. Santibañez</cp:lastModifiedBy>
  <dcterms:modified xsi:type="dcterms:W3CDTF">2008-03-05T21:05:48Z</dcterms:modified>
  <cp:revision>27</cp:revision>
  <dc:subject/>
  <dc:title>Formas de Adquisición</dc:title>
</cp:coreProperties>
</file>